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3A3D-5F5D-4F24-A622-49C2DF50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DB45-5BFD-41EB-9D1C-BC1A6C4F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F4FF-460B-4207-9C4E-26A01E64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B406-5819-45FE-874A-544FF03F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7DCA-DB25-43E1-990F-EBA4DE4E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7F6F-838A-44B6-89B8-8EB02272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1CC0-01E6-4BC9-AFFB-2D12C13A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0127-442B-4557-9E27-BBFD2F72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7393-2355-4985-B883-224FDF49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0A5A-07FF-4308-B7EC-055386C8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CE6-0FA9-4DD4-99CE-0D6AFB3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F1F5-CA7B-4D6B-9AF8-FEE4ED89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F2A4-AC61-46A3-8CED-893CD561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ED13-3957-47E9-AB2B-6C6F2F7A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A5EE-391C-42F8-965F-81D8B734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AEE4-A450-404C-B37F-01F8A168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BACD-7EE5-4773-AEFC-1A99740E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5DBB-799D-4851-BEB4-2AFA4AAD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5571-7F5D-4BED-8944-38F194F0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63C4-8E39-4F66-894A-B07B0361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D332-B30E-4649-9DF3-350CC503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F8DF-2512-4A19-9A74-A3550A9F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7973-E945-4026-A20A-673944A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4F83-9E62-463C-BC06-8B0DA410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F84A-D9C1-47DF-8B5F-B671B9C44D7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128F-C049-495C-A3D9-3FAE077F908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447200"/>
            <a:ext cx="932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4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239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Бог е силен мой Помощник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боя се от бе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рен ми е Той Защитник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живея с веселб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, за мен е всяко благ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нозете на Хрис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си аз почивам сладк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пресвята Му ръ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Ако врагове ме погн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ме тъпчат като прах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ло не могат да ми сторят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Христа съм аз без стра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, за мен е всяко благ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нозете на Хрис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си аз почивам сладк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пресвята Му ръ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Дом, имане, мило здрав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 изчезнат този час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небесно подкрепл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ще пея и тогаз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, за мен е всяко благ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нозете на Хрис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си аз почивам сладк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пресвята Му ръ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1-01T16:50:51Z</dcterms:modified>
  <cp:revision>73</cp:revision>
  <dc:subject/>
  <dc:title>Slide 1</dc:title>
</cp:coreProperties>
</file>